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A003-127F-4BD1-8597-3759303AF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6C03-39BF-4A8A-B129-09CCE16F4F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A490-3495-4D2F-8B16-99EF53E1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BC0-8A93-40BC-9193-7C4AC569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00B3-70C4-41E2-A900-C6A49E00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FF3E-3435-4393-957F-2B9D9AC7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0639-1529-4DA4-BB7F-1EF770DE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AAFF-486A-4528-A870-448AA4CC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71E9-0D4A-4540-BB98-5BB60FBC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2C22-4A4E-4AE8-B095-FF489E73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602A-DB28-4C12-A527-44FB9F43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A145-D171-4194-82B2-BABB3DEA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7587-7EB0-4A37-B5AF-7B4868D9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0AC-7CA3-4DBD-8595-E61B3AAD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B96D-CE1E-4979-A9FB-A0A324FE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798C-1092-4360-9C6C-B2EA52B5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AE1F-00D0-47B7-9998-8B0C3153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4E58-A3D8-47D8-B54F-6175E75B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20F5-DAF1-4EA6-B870-B38B0E3F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1066-260D-4B50-8105-D2807B15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7D5-61D2-452A-B762-038A7B16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181-3BB7-40E9-B750-C55E7217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419-E50D-4A5C-BF62-800521FC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F68B-8EA2-41FB-9292-906C61B2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6351-D301-4986-95E9-0B225712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56F2-D5CB-4C44-A58A-F3C2E78E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48A2-B017-4BD7-845E-80BD601EECC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72D3-4586-45A9-ACBF-8EA1841B4ED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com/imgres?imgurl=http://digilander.libero.it/Bologna16/volpi/erwin-rommel.jpg&amp;imgrefurl=http://www.militaryphotos.net/forums/showthread.php?p=4399248&amp;usg=__ZWixo67lA1h-U5kekNznmnupNHQ=&amp;h=767&amp;w=520&amp;sz=73&amp;hl=en&amp;start=1&amp;um=1&amp;itbs=1&amp;tbnid=aM5YZGT5zhObQM:&amp;tbnh=142&amp;tbnw=96&amp;prev=/images?q=erwin+rommel&amp;hl=en&amp;sa=N&amp;um=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x28.xanga.com/699b31f379d29162306600/w23527422.jpg&amp;imgrefurl=http://bejiita.xanga.com/&amp;usg=__GZyHL9tl0iZ3WZ2l8TKaqjuYyi8=&amp;h=484&amp;w=424&amp;sz=39&amp;hl=en&amp;start=1&amp;um=1&amp;itbs=1&amp;tbnid=YUfmjsxpCH1C3M:&amp;tbnh=129&amp;tbnw=113&amp;prev=/images?q=erwin+rommel%27s+family&amp;hl=en&amp;sa=N&amp;um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host.epier.com/101020/Rommel%201916%20married%20Lucie%20Mollin%2022...jpg&amp;imgrefurl=http://www.epier.com/biddingform.asp?1858148&amp;usg=__A-2xaMM0bhaHbX5B2armxSwrGGk=&amp;h=640&amp;w=534&amp;sz=57&amp;hl=en&amp;start=1&amp;um=1&amp;itbs=1&amp;tbnid=6lzqB1bbcW0m7M:&amp;tbnh=137&amp;tbnw=114&amp;prev=/images?q=erwin+rommel%27s+wife&amp;hl=en&amp;sa=N&amp;um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mericainwwii.com/images/facingthefoxrommel.jpg&amp;imgrefurl=http://www.americainwwii.com/stories/facingthefox.html&amp;usg=__B9c3Tp5qq39hKbbwpcl-6NsAnPI=&amp;h=500&amp;w=333&amp;sz=35&amp;hl=en&amp;start=18&amp;um=1&amp;itbs=1&amp;tbnid=xjQEkp0HJAd6pM:&amp;tbnh=130&amp;tbnw=87&amp;prev=/images?q=erwin+rommel%27s+prisoners&amp;hl=en&amp;um=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291960" y="298440"/>
            <a:ext cx="8821800" cy="1755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t0.gstatic.com/images?q=tbn:aM5YZGT5zhObQM:http://digilander.libero.it/Bologna16/volpi/erwin-romme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1800" y="1523880"/>
            <a:ext cx="2666880" cy="394488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1295280" y="58672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orn in Heidenheim, Germany on November 15, 1891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609480" y="685800"/>
            <a:ext cx="7925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ath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win Rommel died on October 14, 1944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 was suspected to have been part of the bombing trying to kill Hitler.  Hitler’s men picked him up and gave him 2 options.1. He could swallow a poisonous pill or he would get a show process in Volksgerichtshof and all of his merits would disappear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 took the poisonous pill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457200" y="533520"/>
            <a:ext cx="8305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urc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spartacus.schoolnet.co.u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historylearningsite.c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gi.grolier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achtungpanzer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findagrave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457200" y="38088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win Rommel’s dad was a school teach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s mom was the daughter of a former president of Wurttemberg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2" descr="http://t2.gstatic.com/images?q=tbn:YUfmjsxpCH1C3M:http://x28.xanga.com/699b31f379d29162306600/w2352742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752480"/>
            <a:ext cx="4200480" cy="434340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762120" y="6172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ommel’s wife as a kid.(On the left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1609560" y="182520"/>
            <a:ext cx="6040440" cy="1096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47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6800" anchor="t">
            <a:normAutofit/>
          </a:bodyPr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ot into the army because his dad wouldn’t let him study engineering at a colleg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s first introduced to the military when he joined the 124 infantry regiment as an officer cade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152280" y="38088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d a wife named Lucie Maria Mollin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rried in 191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d a child on Christmas eve of 1917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2" descr="http://t2.gstatic.com/images?q=tbn:6lzqB1bbcW0m7M:http://imagehost.epier.com/101020/Rommel%25201916%2520married%2520Lucie%2520Mollin%252022..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2209680"/>
            <a:ext cx="34480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5480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47920" y="1905120"/>
            <a:ext cx="64008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ght in the western front and won the Iron Cro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1917 in the Italian front and soon was promoted to captain after leading the attack on Monte Mataju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ained a lot of respect for leading thi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icknamed “Desert Fox”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s commander of the Afrika Cor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e warned Hitler about the hopelessness of the Axis situation in Afric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3" name="Picture 2" descr="Captured British Matilda"/>
          <p:cNvPicPr/>
          <p:nvPr/>
        </p:nvPicPr>
        <p:blipFill>
          <a:blip r:embed="rId2"/>
          <a:stretch/>
        </p:blipFill>
        <p:spPr>
          <a:xfrm>
            <a:off x="1905120" y="3352680"/>
            <a:ext cx="47624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609480" y="380880"/>
            <a:ext cx="8001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ommel’s Braver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ommel always showed bravery during battl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example is when he had a broken leg and ran out of ammo, he charged three Frenchmen with a bayone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762120" y="32004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fter returning from the frontlines in Argonne, Rommel received his first declaration for bravery which was the Iron Cross Class 1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685800" y="3049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Good Ma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304920" y="137160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ommel was well respected by the British because of his respect for the enem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lieved that all prisoners of war should be well looked after and not abus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Picture 2" descr="http://t0.gstatic.com/images?q=tbn:xjQEkp0HJAd6pM:http://www.americainwwii.com/images/facingthefoxromm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048120"/>
            <a:ext cx="3124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380880" y="380880"/>
            <a:ext cx="815364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spected to be part of the bomb plot against Hitler and the Gestap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s against Hitler on many decisio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between being a general on duty, Rommel was an instructor at an infantry school and at Potsdam War Academ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Picture 2" descr="http://t0.gstatic.com/images?q=tbn:0od8OvkGGu1MVM:http://lh3.ggpht.com/_7EkhptubRDQ/SpoS7H5QDJI/AAAAAAAAANc/gCWashQdmJs/s800/361px-Bundesarchiv_Bild_146-1973-012-43%25252C_Erwin_Rommel.jpg"/>
          <p:cNvPicPr/>
          <p:nvPr/>
        </p:nvPicPr>
        <p:blipFill>
          <a:blip r:embed="rId1"/>
          <a:stretch/>
        </p:blipFill>
        <p:spPr>
          <a:xfrm>
            <a:off x="5334120" y="3540240"/>
            <a:ext cx="19904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6:43:02Z</dcterms:created>
  <dc:creator>Smith</dc:creator>
  <dc:description/>
  <dc:language>en-US</dc:language>
  <cp:lastModifiedBy> </cp:lastModifiedBy>
  <dcterms:modified xsi:type="dcterms:W3CDTF">2009-11-30T00:59:26Z</dcterms:modified>
  <cp:revision>25</cp:revision>
  <dc:subject/>
  <dc:title>Erwin Rommel</dc:title>
</cp:coreProperties>
</file>